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F621-66FE-477E-86C9-8332B5ED8D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CB4-E914-4BCD-BC18-0073D1C7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BE8-CBA8-4942-B614-A547570F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760-A6E9-48C5-A350-09627D62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058-72EF-4941-BED7-56D87736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94C-EF1E-449B-BF16-1774402E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6D9-F7F4-4FD9-8E12-66669046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AB2-9D85-45B9-80D2-58FDCECA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103-7C55-4272-8BFE-4A8446B3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4FA-05E8-4EED-807A-C08D3A57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1037-D29C-454E-BCE9-480A3C06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E61-6919-4D49-948F-A8440202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DAE-432E-4934-B719-08E464E2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14C8-C13B-43FA-AFEB-4FA4DDA1CD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jai.net/swanson/therav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Describe the feelings that come to mind after reading these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953600" y="3195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29280" y="583416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lackadder ITC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34520" y="425592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rinda"/>
              </a:rPr>
              <a:t>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585600" y="205740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Eras Demi ITC"/>
              </a:rPr>
              <a:t>S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73120" y="2532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 Cond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5627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ngravers MT"/>
              </a:rPr>
              <a:t>Melanch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139920" y="38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094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Modern"/>
              </a:rPr>
              <a:t>St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061880" y="4802040"/>
            <a:ext cx="14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838080"/>
            <a:ext cx="853452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jai.net/swanson/therave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23560" y="533520"/>
            <a:ext cx="325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Blackadder ITC"/>
              </a:rPr>
              <a:t>The Rave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dgar Allan 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aven"/>
          <p:cNvPicPr/>
          <p:nvPr/>
        </p:nvPicPr>
        <p:blipFill>
          <a:blip r:embed="rId2"/>
          <a:stretch/>
        </p:blipFill>
        <p:spPr>
          <a:xfrm>
            <a:off x="3352680" y="3733920"/>
            <a:ext cx="2686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2"/>
          <p:cNvGrpSpPr/>
          <p:nvPr/>
        </p:nvGrpSpPr>
        <p:grpSpPr>
          <a:xfrm>
            <a:off x="533520" y="457200"/>
            <a:ext cx="8001000" cy="5715000"/>
            <a:chOff x="533520" y="457200"/>
            <a:chExt cx="8001000" cy="5715000"/>
          </a:xfrm>
        </p:grpSpPr>
        <p:sp>
          <p:nvSpPr>
            <p:cNvPr id="66" name="Rectangle 5"/>
            <p:cNvSpPr/>
            <p:nvPr/>
          </p:nvSpPr>
          <p:spPr>
            <a:xfrm>
              <a:off x="533520" y="457200"/>
              <a:ext cx="8001000" cy="571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3657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33520" y="106668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09480" y="5335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733920" y="533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chniqu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943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6019920" y="533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95280" y="3808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ravenII"/>
          <p:cNvPicPr/>
          <p:nvPr/>
        </p:nvPicPr>
        <p:blipFill>
          <a:blip r:embed="rId1"/>
          <a:stretch/>
        </p:blipFill>
        <p:spPr>
          <a:xfrm>
            <a:off x="3581280" y="1371600"/>
            <a:ext cx="183384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y not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duck"/>
          <p:cNvPicPr/>
          <p:nvPr/>
        </p:nvPicPr>
        <p:blipFill>
          <a:blip r:embed="rId2"/>
          <a:stretch/>
        </p:blipFill>
        <p:spPr>
          <a:xfrm>
            <a:off x="6094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arrot"/>
          <p:cNvPicPr/>
          <p:nvPr/>
        </p:nvPicPr>
        <p:blipFill>
          <a:blip r:embed="rId3"/>
          <a:stretch/>
        </p:blipFill>
        <p:spPr>
          <a:xfrm>
            <a:off x="2362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ove"/>
          <p:cNvPicPr/>
          <p:nvPr/>
        </p:nvPicPr>
        <p:blipFill>
          <a:blip r:embed="rId4"/>
          <a:stretch/>
        </p:blipFill>
        <p:spPr>
          <a:xfrm>
            <a:off x="4114800" y="51814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nguin"/>
          <p:cNvPicPr/>
          <p:nvPr/>
        </p:nvPicPr>
        <p:blipFill>
          <a:blip r:embed="rId5"/>
          <a:stretch/>
        </p:blipFill>
        <p:spPr>
          <a:xfrm>
            <a:off x="5791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nary"/>
          <p:cNvPicPr/>
          <p:nvPr/>
        </p:nvPicPr>
        <p:blipFill>
          <a:blip r:embed="rId6"/>
          <a:stretch/>
        </p:blipFill>
        <p:spPr>
          <a:xfrm>
            <a:off x="7467480" y="51814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14600" y="2590920"/>
            <a:ext cx="3962520" cy="18288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hat might we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ith rav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ravenII"/>
          <p:cNvPicPr/>
          <p:nvPr/>
        </p:nvPicPr>
        <p:blipFill>
          <a:blip r:embed="rId1"/>
          <a:stretch/>
        </p:blipFill>
        <p:spPr>
          <a:xfrm>
            <a:off x="228600" y="228600"/>
            <a:ext cx="1208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96280" y="304920"/>
            <a:ext cx="77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33:15Z</dcterms:created>
  <dc:creator>anna</dc:creator>
  <dc:description>The Raven</dc:description>
  <cp:keywords>The Raven</cp:keywords>
  <dc:language>en-US</dc:language>
  <cp:lastModifiedBy>RomaK</cp:lastModifiedBy>
  <dcterms:modified xsi:type="dcterms:W3CDTF">2015-09-04T10:39:49Z</dcterms:modified>
  <cp:revision>9</cp:revision>
  <dc:subject>The Raven</dc:subject>
  <dc:title>The Raven</dc:title>
</cp:coreProperties>
</file>